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0B1-FDC9-448C-A731-23B7DFBE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1973-398D-4A1D-9EFC-F7C715B2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F3E-9F4D-4EF5-9DD9-D6199698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ABD-493D-4E65-A77B-81E9D880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277A-4831-42E4-8307-54B94A3D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447-87E0-4383-8AA4-0BC98500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D3D-A1FE-448F-B6F0-2B7BA8AE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274-D76D-422C-B0C4-45F7E0D0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B48-3789-4845-8CAA-29A35455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C89-9072-45C7-A5E2-A7F8DF80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C621-5460-46BE-AD7C-3C7369C4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217-D505-4A96-8295-10835534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C7B43-EE7B-4EDD-8B98-B575481003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77FF6-8635-4768-8B29-8617BD111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hat is water made of? (think about the periodic table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9836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 iron nail rusts. The iron reacts with oxygen in the air to make rust (iron oxide)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 Fe + 3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2 F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the product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the reactant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6000840" y="30862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quation Game – Hold up either your product or reactant sig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2H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quation Game – Hold up either your product or reactant sig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 Al +  3 Br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quation Game – Hold up either your product or reactant sig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+ 3O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 2CO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+ 3H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quation Game – Hold up either your product or reactant sig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+ 3KOH </a:t>
            </a:r>
            <a:r>
              <a:rPr b="0" lang="en-US" sz="4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K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+ 3H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quation Game – Hold up either your product or reactant sig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12Rb + 2NO</a:t>
            </a:r>
            <a:r>
              <a:rPr b="0" lang="en-US" sz="53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5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 6Rb</a:t>
            </a:r>
            <a:r>
              <a:rPr b="0" lang="en-US" sz="5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O + N</a:t>
            </a:r>
            <a:r>
              <a:rPr b="0" lang="en-US" sz="5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quation Game – Hold up either your product or reactant sig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alibri"/>
              </a:rPr>
              <a:t>2NO</a:t>
            </a:r>
            <a:r>
              <a:rPr b="0" lang="es-ES" sz="5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5000" spc="-1" strike="noStrike">
                <a:solidFill>
                  <a:srgbClr val="000000"/>
                </a:solidFill>
                <a:latin typeface="Calibri"/>
              </a:rPr>
              <a:t> + 7H</a:t>
            </a:r>
            <a:r>
              <a:rPr b="0" lang="es-ES" sz="5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5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5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5000" spc="-1" strike="noStrike">
                <a:solidFill>
                  <a:srgbClr val="000000"/>
                </a:solidFill>
                <a:latin typeface="Calibri"/>
              </a:rPr>
              <a:t> 2NH</a:t>
            </a:r>
            <a:r>
              <a:rPr b="0" lang="es-ES" sz="5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5000" spc="-1" strike="noStrike">
                <a:solidFill>
                  <a:srgbClr val="000000"/>
                </a:solidFill>
                <a:latin typeface="Calibri"/>
              </a:rPr>
              <a:t> + 4H</a:t>
            </a:r>
            <a:r>
              <a:rPr b="0" lang="es-ES" sz="5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5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quation Game – Hold up either your product or reactant sig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6200" spc="-1" strike="noStrike">
                <a:solidFill>
                  <a:srgbClr val="000000"/>
                </a:solidFill>
                <a:latin typeface="Calibri"/>
              </a:rPr>
              <a:t>2POCl</a:t>
            </a:r>
            <a:r>
              <a:rPr b="0" lang="es-ES" sz="6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6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6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6200" spc="-1" strike="noStrike">
                <a:solidFill>
                  <a:srgbClr val="000000"/>
                </a:solidFill>
                <a:latin typeface="Calibri"/>
              </a:rPr>
              <a:t> 2PCl</a:t>
            </a:r>
            <a:r>
              <a:rPr b="0" lang="es-ES" sz="6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62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0" lang="es-ES" sz="6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6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silver spoon tarnishes. The silver reacts with sulfur in the air to make silver sulfide, the black material we call tarnish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 Ag + 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product is made as a result of silver tarnishing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730920" y="0"/>
            <a:ext cx="24130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silver spoon tarnishes. The silver reacts with sulfur in the air to make silver sulfide, the black material we call tarnish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 Ag + 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the reactants in this equation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730920" y="0"/>
            <a:ext cx="24130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Tracking and Rew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732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 antacid (calcium hydroxide) neutralizes stomach acid (hydrochloric acid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(OH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+ 2 HCl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a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reactants are consumed during this chemical reac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7516800" y="0"/>
            <a:ext cx="162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41732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 antacid (calcium hydroxide) neutralizes stomach acid (hydrochloric acid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(OH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+ 2 HCl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a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the products of this equa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516800" y="0"/>
            <a:ext cx="162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8 Te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9.1 Chemical Eq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 Chemical 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1" lang="en-US" sz="43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0 – water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C0</a:t>
            </a:r>
            <a:r>
              <a:rPr b="1" lang="en-US" sz="43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2 </a:t>
            </a: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– carbon dioxide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O</a:t>
            </a:r>
            <a:r>
              <a:rPr b="1" lang="en-US" sz="43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 – oxygen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1" lang="en-US" sz="43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1" lang="en-US" sz="43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12</a:t>
            </a: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O</a:t>
            </a:r>
            <a:r>
              <a:rPr b="1" lang="en-US" sz="43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 – sugar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NaCl – table sal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HCl – hydrochloric acid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llowing equation shows the chemical reaction that occurs when methane bur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2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chemical formula of methan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 Eq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 chemical equation uses symbols to show the reactants and products of a chemical rea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e reactants are what you have before a chemical rea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e products are what a chemical reaction mak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In the marshmallow demonstration, what did we start with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hat did we end up with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812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e formulas for the reactants are written on the left of the arrow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e formulas for the products are written on the right of the arrow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e arrow is read as “yields.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199880" indent="-171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 + 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C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is reads “carbon plus oxygen react to yield carbon dioxid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04:20:24Z</dcterms:created>
  <dc:creator>Caroline Roth</dc:creator>
  <dc:description/>
  <dc:language>en-US</dc:language>
  <cp:lastModifiedBy>Caroline Roth</cp:lastModifiedBy>
  <dcterms:modified xsi:type="dcterms:W3CDTF">2011-04-05T02:15:25Z</dcterms:modified>
  <cp:revision>5</cp:revision>
  <dc:subject/>
  <dc:title>Do Now</dc:title>
</cp:coreProperties>
</file>